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29F-48C5-40A2-93A7-0204855F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8D1-C4FB-46FA-9C57-E78E7A7E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545-4A9A-457E-9319-3636FAEA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3D8-EF2F-4C42-BACA-35ED9D88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581B-B7E6-4F79-B48E-D2DE2EA8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500B-A877-4FFD-B395-7C59FDF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06E3-CCCA-41E9-B2FD-33EF3E64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C19-6B96-4CA6-BF90-674A312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6841-92CF-4344-98A1-F4D5F56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B6BF-3574-43FF-87F6-79AFE09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F2C-A3BE-41DF-8216-DE1CECEE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AD-2CC8-4C80-BC5D-8D5082E2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B934-4A2C-427A-B920-50E2277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E9E-39A7-4449-9AF7-CD952E8C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9FB0-D630-4FCB-8764-49DC521D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93A-F791-4BD5-9E87-74706C19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BAF2-D829-4682-9961-7D54939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8A4-6E70-4181-AC4F-5FD9748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082-06AC-436E-9024-68CF395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C2E-B3B6-43E1-9BAC-D4D3C7A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50E-A2E4-4D76-AFFB-0718C0E4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C52-6A44-4730-9074-1BE31A4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4D2-6157-4E5B-919D-E97611A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6F9-5404-49DA-A598-073FE10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D21-FE9F-4215-B33C-1C8135B3BD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96DF-6E50-431C-8DAC-2FDDBFA62E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a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nd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ologist’s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y = prima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 / club = seconda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less personally and more formally with group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icial roles taken by group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structure allows for attainment of goals (wi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2767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st’s 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to the individuals pers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to the individuals wants, needs, strength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atisfies their personal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273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hropologist’s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the sub-cultures that coexist in a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s gravitate to the specifics of a sub-culture (team s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tuals (dance, cheers, taboo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culture (jersey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4862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reaucra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 groups with comprehensive and elaborate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048120"/>
            <a:ext cx="2921040" cy="32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id operational style – paperwork, super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defined management structure (a.k.a. the “ladd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l – you may never meet the t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.g. Tim Hort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124080"/>
            <a:ext cx="3200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, can make personal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1 or 2 levels (e.g. you and you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, persona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Mom and Pop dough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590920"/>
            <a:ext cx="75438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eaucrac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v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ureaucr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reaucracies continued </a:t>
            </a:r>
            <a:br>
              <a:rPr sz="3800"/>
            </a:br>
            <a:r>
              <a:rPr b="1" lang="fr-FR" sz="3800" spc="-1" strike="noStrike">
                <a:solidFill>
                  <a:srgbClr val="006633"/>
                </a:solidFill>
                <a:latin typeface="Garamond"/>
              </a:rPr>
              <a:t>Anthropologists Perspectiv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Red Tap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cra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ngl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often prefer to pay more than go through the paperwork to get an exemption (compassionate f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s without 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dic bands – kinship structures determin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ressure, not trial and punishment to enforce n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150012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31626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br>
              <a:rPr sz="3800"/>
            </a:br>
            <a:r>
              <a:rPr b="1" lang="fr-FR" sz="3800" spc="-1" strike="noStrike">
                <a:solidFill>
                  <a:srgbClr val="006633"/>
                </a:solidFill>
                <a:latin typeface="Garamond"/>
              </a:rPr>
              <a:t>Psychology Perspectiv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workers feel little control over their environment, it causes increased 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iston Honda car plant exa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ssembly line car plant is more stressful than the team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cisions abo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less str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mor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7814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ociologist’s Perspectiv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ople form bureaucracies t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hieve complex goals n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wise attain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ltures vary within bureaucra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ulture within a bureaucracy can have a huge impact on its success as a w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tibi and Donohue (pulp and paper mer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 perks vs. lean and 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3 months the executives from Donohue had all re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went down from $100 to $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20040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procedures and fewer pers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knows role explici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goal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s society organ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as efficient as the people who work t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cated “red tap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08:01Z</dcterms:created>
  <dc:creator>The Owner</dc:creator>
  <dc:description/>
  <dc:language>en-US</dc:language>
  <cp:lastModifiedBy>Customer</cp:lastModifiedBy>
  <dcterms:modified xsi:type="dcterms:W3CDTF">2010-12-06T19:19:17Z</dcterms:modified>
  <cp:revision>3</cp:revision>
  <dc:subject/>
  <dc:title>Unit 4</dc:title>
</cp:coreProperties>
</file>